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4F1-5DA2-4DBA-B32C-ADD186C5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B0B-E578-4633-B3A1-98A14A3C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1B1-CB9B-4DA6-BE9D-AADBFA5C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CE5-7B4A-4650-9BE5-DB0D714E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08B01-B497-47CA-B9E6-0FF06B7C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B4B7F-AF97-4EA8-A49D-7CEA4A89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0E246-C7DF-4D17-B99F-6594F0DC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99FC9-3909-45F1-9BB1-840D5DA4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7FE3F-4B30-4F19-8B9C-67CC29D2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E38E-5EA5-474A-91DB-4F6CFA87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C2756-9536-4937-99EA-7CE598C1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C19-3F76-478A-A925-0F5F1FCB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B168B-225B-4E53-B409-EFC2CE11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AEE57-CBDB-4506-8302-934E5587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F475C-AB5D-418C-8BB1-5CD270B2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6D362-BA33-4BDF-AABE-A3CC7441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B9743-F912-45E8-AA9B-6FD11097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69DE-16F9-439B-9C32-9B9487CD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D92C-0BD7-4023-86B8-475C42DD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0FBB-684E-48FE-8396-E5369F2B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2B25B-76AD-4913-847B-68B81DB2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E0F8-D8DA-4492-8849-F849B8B0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5EF-183F-453C-B34B-7C78EE29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9CC0-A996-4313-B0C6-3F697B7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4B87-B637-42AC-9C0B-1321AD3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D0B9-4586-4FC5-BDCA-3219106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872F-D0FA-4420-A77F-11FA907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6781-E7FA-455B-B624-0302CEBB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B7DA-495B-4521-866B-D8457895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0BB1-47AC-44A8-A66E-B2608F1D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588B1-41F8-49D6-A858-B5243F3B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4F715-51AF-4C56-A2E5-D594CB74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BC32D-F457-4C73-8B3B-F23EF6CC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E29-2B88-4AD7-B542-A91E58E6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8BC2D-50C3-4E35-95A2-6ECF8C76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66E06-3D54-4381-89E4-945743F8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9C9EC6-E472-4F7C-8D2A-A80B24C4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266FD-D9A0-4E82-AADE-A9411004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78B68-1461-493B-AB4F-6825757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06D2B-9752-49B5-983D-2BD399C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5E609-B5A7-4ABE-A7FC-ACB45F8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B07DE-3B9F-4D86-9F8B-D6BA2408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B978E-3405-43A9-9F15-E266EF32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FC3-753C-4396-A57C-3F5B3DC1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0DB-7C10-4FA8-AD50-30CA969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142-69EC-4F87-A24A-0A767D3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7B5-0F9A-4C2F-91ED-5A5F2B3F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8E9-8E44-4325-ABF6-2B8CAF07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d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72AD-AA57-4374-AEA5-EEDA6D700DD5}" type="slidenum">
              <a:rPr b="0" lang="en-US" sz="1600" spc="-1" strike="noStrike">
                <a:solidFill>
                  <a:srgbClr val="deded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438086"/>
          </a:solidFill>
          <a:ln w="38160">
            <a:solidFill>
              <a:srgbClr val="438086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d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67E8-B122-4F6E-849A-36540B25BDAC}" type="slidenum">
              <a:rPr b="0" lang="en-US" sz="1600" spc="-1" strike="noStrike">
                <a:solidFill>
                  <a:srgbClr val="deded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d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98E2-20C2-4BF7-AEDD-2868D35AD793}" type="slidenum">
              <a:rPr b="0" lang="en-US" sz="1600" spc="-1" strike="noStrike">
                <a:solidFill>
                  <a:srgbClr val="deded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3BF9-8708-4415-A1D1-CC985BD489D0}" type="slidenum">
              <a:rPr b="0" lang="en-US" sz="1600" spc="-1" strike="noStrike">
                <a:solidFill>
                  <a:srgbClr val="deded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d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istoryplace.com/worldwar2/biographies/eichmann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Constantia"/>
              </a:rPr>
              <a:t>Brittany Cook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476280" y="1816200"/>
            <a:ext cx="81867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ntenced to dea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nged at Ramien Pri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May 31, 1962, the State of Israel carried out the only death sentence in it’s history on the man whose only defense was “I was just following order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ontent Placeholder 3" descr="51NwI18ABaL__SL500_AA240_.jpg"/>
          <p:cNvPicPr/>
          <p:nvPr/>
        </p:nvPicPr>
        <p:blipFill>
          <a:blip r:embed="rId1"/>
          <a:stretch/>
        </p:blipFill>
        <p:spPr>
          <a:xfrm>
            <a:off x="1195560" y="225360"/>
            <a:ext cx="6375240" cy="12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Constantia"/>
                <a:hlinkClick r:id="rId1"/>
              </a:rPr>
              <a:t>http://www.historyplace.com/worldwar2/biographies/eichmann.ht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nizkor.org/hweb/people/e/eichmann-adolf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jewishvirtuallibrary.org/jsource/Holocaust/eichmann.htm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auschwitz.dk/Eichmann.ht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itannica.com/EBchecked/topic/180925/Adolf-Eichman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encyclopedia.com/doc/1G2-3404701964.htm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5238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chitect of the Holocaust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rn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March 19, 1906 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Cologne, German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Into a middle class protestant famil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ath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May 31, 1962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</p:txBody>
      </p:sp>
      <p:pic>
        <p:nvPicPr>
          <p:cNvPr id="174" name="Content Placeholder 4" descr="Adolf face.jpg"/>
          <p:cNvPicPr/>
          <p:nvPr/>
        </p:nvPicPr>
        <p:blipFill>
          <a:blip r:embed="rId2"/>
          <a:stretch/>
        </p:blipFill>
        <p:spPr>
          <a:xfrm>
            <a:off x="5310360" y="1444680"/>
            <a:ext cx="3022560" cy="94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e of the most feared and hated Nazi lea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ponsible for the deaths of millions of Jews during WWI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Content Placeholder 4" descr="eich16.jpg"/>
          <p:cNvPicPr/>
          <p:nvPr/>
        </p:nvPicPr>
        <p:blipFill>
          <a:blip r:embed="rId2"/>
          <a:stretch/>
        </p:blipFill>
        <p:spPr>
          <a:xfrm>
            <a:off x="5035680" y="1517760"/>
            <a:ext cx="32860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other died when he was 10 years ol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amily then moved to Linz, Austria after the dea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or student unlike his 3 brothers and 1 sister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eased as a boy for his looks and dark complex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icknamed "the little Jew"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ent to the same secondary school Hitler had attended 15 years befo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iled to complete his engineering stud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d various jobs including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A laborer in his father's small mining compan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Working in sales for an electrical construction company 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Traveling salesman for an American oil compan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</p:txBody>
      </p:sp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oined the growing Austrian Nazi Part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April 1, 1932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He was 26 years old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ggested by his frie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Ernst Kaltenbrunner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 feared henchman in the Holocaust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Took part in extermination camp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ntenced to death in Nuremburg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Crimes against humanity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naziwarcrimes.files.wordpress.com/2008/08/dr-ernst-kaltenbrunner1.jpg"/>
          <p:cNvPicPr/>
          <p:nvPr/>
        </p:nvPicPr>
        <p:blipFill>
          <a:blip r:embed="rId2"/>
          <a:stretch/>
        </p:blipFill>
        <p:spPr>
          <a:xfrm>
            <a:off x="6072120" y="2206800"/>
            <a:ext cx="2535480" cy="60465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6095880" y="5334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dbe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bed3"/>
                </a:solidFill>
                <a:latin typeface="Constantia"/>
              </a:rPr>
              <a:t>Ernst Kaltenbru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2860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ter became a member of the SS-Obersturmbannfuehr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d of the Department for Jewish Affairs in Gestap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From 1941-1945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ief of Operations in the deportation of 3 million Jews to extermination cam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262080" y="146160"/>
            <a:ext cx="86137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ganized the Wannsee Conference of January 194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Focused on issues related to the “Final Solution to the Jewish Question”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Aimed at the total extermination of European Jewr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</p:txBody>
      </p:sp>
      <p:pic>
        <p:nvPicPr>
          <p:cNvPr id="189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ialed in Jerusal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Crimes against the Jewish people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Crimes against humanit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War Crimes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nd Guilty on all c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Content Placeholder 4" descr="eich15.jpg"/>
          <p:cNvPicPr/>
          <p:nvPr/>
        </p:nvPicPr>
        <p:blipFill>
          <a:blip r:embed="rId2"/>
          <a:stretch/>
        </p:blipFill>
        <p:spPr>
          <a:xfrm>
            <a:off x="4863960" y="1457280"/>
            <a:ext cx="35672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6:38:30Z</dcterms:created>
  <dc:creator> </dc:creator>
  <dc:description/>
  <dc:language>en-US</dc:language>
  <cp:lastModifiedBy> </cp:lastModifiedBy>
  <dcterms:modified xsi:type="dcterms:W3CDTF">2009-11-25T17:14:05Z</dcterms:modified>
  <cp:revision>19</cp:revision>
  <dc:subject/>
  <dc:title>Adolf Eichmann</dc:title>
</cp:coreProperties>
</file>